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EDE-78AE-4BEC-8ED5-AF43ED3E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F79-1607-413F-9FD8-808DE26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AAA-C6CB-4380-A58D-A952855A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932-6EA0-42DD-87AA-B3CF7388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BDF-2FB8-4EA6-8C13-AF2BE53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78E-33F4-4778-9495-AA568B41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480-692D-4852-8C9A-BE7EB846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847-FD47-4188-A2D8-BDD2B55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8EA-4D01-45B7-96A0-55FE983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AD5-D764-4F91-A00C-497DC711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BE4-3640-4F6C-B6FB-3771D01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E2C-803E-4DA8-90F7-9005CCE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B2C-0D47-404A-BDB1-7203B25F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068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565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Le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9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7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7664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 previous work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nvert 12hr to 24h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378936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Convert 24 hr to 12h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4292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Count Method to find time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70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91628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  <a:ea typeface="Arial"/>
              </a:rPr>
              <a:t>There are two major ways to show the time:   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"AM/PM"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  <a:ea typeface="Arial"/>
              </a:rPr>
              <a:t> or 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"24 Hour Clock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81000" y="2556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With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4 Hour Cl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the time is shown as how many hours and minutes since midnight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3549600"/>
            <a:ext cx="70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AM/PM</a:t>
            </a: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 the day is split into the 12 Hours running from Midnight to No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(the AM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6880" y="476892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other 12 Hours running from Noon to Midn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the PM hou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8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7760" y="1700280"/>
            <a:ext cx="39009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0091"/>
                </a:solidFill>
                <a:uFillTx/>
                <a:latin typeface="Comic Sans MS"/>
                <a:ea typeface="Arial"/>
              </a:rPr>
              <a:t>What Day is Mid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idnight has another problem - there is nothing to tell you "is this the beginning or ending of the day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99736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agine you are told your friends are leaving on holiday at "midnight" on 12th March, what day should you arrive to say goodby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76640"/>
            <a:ext cx="81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you get there on the 11th (assuming they leave at the very start of the 12th), or the 12th (assuming they leave at the end of the 12th)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157720"/>
            <a:ext cx="815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t is better to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11:59 PM or 12:01 AM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23:59 or 0:01 (24-Hour 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ich the railroads, airlines and military actually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107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5"/>
          <p:cNvSpPr/>
          <p:nvPr/>
        </p:nvSpPr>
        <p:spPr>
          <a:xfrm>
            <a:off x="570240" y="3510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3080" y="404640"/>
            <a:ext cx="8800920" cy="3089160"/>
            <a:chOff x="343080" y="404640"/>
            <a:chExt cx="8800920" cy="3089160"/>
          </a:xfrm>
        </p:grpSpPr>
        <p:sp>
          <p:nvSpPr>
            <p:cNvPr id="115" name=""/>
            <p:cNvSpPr/>
            <p:nvPr/>
          </p:nvSpPr>
          <p:spPr>
            <a:xfrm>
              <a:off x="8420040" y="29113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29113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91560" y="29113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05760" y="29113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29113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34160" y="29113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52960" y="29113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8080" y="29113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5960" y="29113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29113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29113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80" y="29113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0040" y="232884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232884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91560" y="232884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05760" y="232884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232884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4160" y="232884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52960" y="232884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8080" y="232884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5960" y="232884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24200" y="232884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232884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080" y="232884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midd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0040" y="174600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6080" y="174600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91560" y="174600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05760" y="1746000"/>
              <a:ext cx="6858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8680" y="1746000"/>
              <a:ext cx="6670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34160" y="174600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2960" y="1746000"/>
              <a:ext cx="781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48080" y="1746000"/>
              <a:ext cx="7048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1746000"/>
              <a:ext cx="7621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24200" y="1746000"/>
              <a:ext cx="7617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1746000"/>
              <a:ext cx="6289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080" y="1746000"/>
              <a:ext cx="952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20040" y="11635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96080" y="11635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1560" y="11635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05760" y="11635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11635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4160" y="11635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52960" y="11635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48080" y="11635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5960" y="11635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24200" y="11635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11635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3080" y="11635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Comic Sans MS"/>
                </a:rPr>
                <a:t>midn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3080" y="116352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080" y="349380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080" y="116352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859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480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529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341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86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57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9156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0040" y="116352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144000" y="116352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3080" y="174600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080" y="232884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291132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7480" y="404640"/>
              <a:ext cx="36576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2/24 Hou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9200" y="3692520"/>
            <a:ext cx="87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Comic Sans MS"/>
                <a:ea typeface="Arial"/>
              </a:rPr>
              <a:t>To go from 12 hour clock to 24 hour clock just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80808"/>
                </a:solidFill>
                <a:uFillTx/>
                <a:latin typeface="Comic Sans MS"/>
                <a:ea typeface="Arial"/>
              </a:rPr>
              <a:t>add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  <a:ea typeface="Arial"/>
              </a:rPr>
              <a:t>12 to the pm ho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7120" y="4183200"/>
            <a:ext cx="7519680" cy="2010240"/>
            <a:chOff x="357120" y="4183200"/>
            <a:chExt cx="7519680" cy="2010240"/>
          </a:xfrm>
        </p:grpSpPr>
        <p:sp>
          <p:nvSpPr>
            <p:cNvPr id="184" name=""/>
            <p:cNvSpPr/>
            <p:nvPr/>
          </p:nvSpPr>
          <p:spPr>
            <a:xfrm>
              <a:off x="357120" y="4183200"/>
              <a:ext cx="16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87000" y="4240440"/>
              <a:ext cx="222804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9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48760" y="4221360"/>
              <a:ext cx="2228040" cy="76428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1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240" y="4945320"/>
              <a:ext cx="286452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5:3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13200" y="4983120"/>
              <a:ext cx="292428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0:3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760" y="5726160"/>
              <a:ext cx="286452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3:4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2360" y="5764320"/>
              <a:ext cx="2924280" cy="429120"/>
            </a:xfrm>
            <a:prstGeom prst="rect">
              <a:avLst/>
            </a:prstGeom>
            <a:gradFill rotWithShape="0">
              <a:gsLst>
                <a:gs pos="0">
                  <a:srgbClr val="007373"/>
                </a:gs>
                <a:gs pos="50000">
                  <a:srgbClr val="009999"/>
                </a:gs>
                <a:gs pos="100000">
                  <a:srgbClr val="0073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:10 pm</a:t>
              </a:r>
              <a:r>
                <a:rPr b="0" lang="en-US" sz="22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 becom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48080" y="5740560"/>
            <a:ext cx="10015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5 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81560" y="4976640"/>
            <a:ext cx="10443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7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95960" y="4280040"/>
            <a:ext cx="10000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1 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37560" y="4251240"/>
            <a:ext cx="10159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3 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05800" y="4991040"/>
            <a:ext cx="10159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2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92920" y="5761080"/>
            <a:ext cx="10018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3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200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0" y="1700280"/>
            <a:ext cx="87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go from 12 hour clock to 24 hour clock just add 12 to the pm ho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.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22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6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476280"/>
            <a:ext cx="2376360" cy="863640"/>
          </a:xfrm>
          <a:prstGeom prst="cloudCallout">
            <a:avLst>
              <a:gd name="adj1" fmla="val -80726"/>
              <a:gd name="adj2" fmla="val 156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12 to the pm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16720" y="1628640"/>
            <a:ext cx="2843280" cy="935280"/>
          </a:xfrm>
          <a:prstGeom prst="cloudCallout">
            <a:avLst>
              <a:gd name="adj1" fmla="val -51509"/>
              <a:gd name="adj2" fmla="val 32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‘am’ or ‘pm’ in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52640"/>
            <a:ext cx="1763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2708280"/>
            <a:ext cx="1763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1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)  9.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2781360"/>
            <a:ext cx="176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5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10.0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0360" y="2781360"/>
            <a:ext cx="1763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  10.0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0 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3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  9. 4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61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3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8364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8364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83640" y="44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83640" y="522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195640" y="6093000"/>
            <a:ext cx="1081080" cy="1027080"/>
            <a:chOff x="2195640" y="6093000"/>
            <a:chExt cx="1081080" cy="1027080"/>
          </a:xfrm>
        </p:grpSpPr>
        <p:sp>
          <p:nvSpPr>
            <p:cNvPr id="243" name=""/>
            <p:cNvSpPr/>
            <p:nvPr/>
          </p:nvSpPr>
          <p:spPr>
            <a:xfrm>
              <a:off x="2195640" y="609300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70240" y="681300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05320" y="635292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68840" y="681300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8440" y="664092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1960" y="664092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5"/>
          <p:cNvSpPr/>
          <p:nvPr/>
        </p:nvSpPr>
        <p:spPr>
          <a:xfrm>
            <a:off x="573480" y="35100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412920"/>
            <a:ext cx="8800920" cy="3089160"/>
            <a:chOff x="0" y="412920"/>
            <a:chExt cx="8800920" cy="3089160"/>
          </a:xfrm>
        </p:grpSpPr>
        <p:sp>
          <p:nvSpPr>
            <p:cNvPr id="251" name=""/>
            <p:cNvSpPr/>
            <p:nvPr/>
          </p:nvSpPr>
          <p:spPr>
            <a:xfrm>
              <a:off x="8076960" y="29196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3000" y="29196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48480" y="29196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62680" y="291960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5600" y="291960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91080" y="29196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91960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05000" y="291960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2880" y="291960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81120" y="291960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52200" y="291960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91960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76960" y="23371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53000" y="233712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48480" y="23371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62680" y="233712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5600" y="233712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91080" y="233712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9880" y="233712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05000" y="233712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2880" y="233712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1120" y="233712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52200" y="233712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p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233712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midd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175428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53000" y="1754280"/>
              <a:ext cx="7239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48480" y="175428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9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62680" y="1754280"/>
              <a:ext cx="6858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8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95600" y="1754280"/>
              <a:ext cx="6670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7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1754280"/>
              <a:ext cx="7045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9880" y="1754280"/>
              <a:ext cx="781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5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5000" y="1754280"/>
              <a:ext cx="70488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4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42880" y="1754280"/>
              <a:ext cx="7621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3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1120" y="1754280"/>
              <a:ext cx="76176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2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52200" y="1754280"/>
              <a:ext cx="62892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754280"/>
              <a:ext cx="952200" cy="582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eaeaea"/>
                </a:gs>
                <a:gs pos="100000">
                  <a:srgbClr val="b1b1b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333399"/>
                  </a:solidFill>
                  <a:latin typeface="Comic Sans MS"/>
                </a:rPr>
                <a:t>00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76960" y="11718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53000" y="1171800"/>
              <a:ext cx="7239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0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48480" y="11718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9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62680" y="1171800"/>
              <a:ext cx="6858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8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5600" y="1171800"/>
              <a:ext cx="6670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7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91080" y="1171800"/>
              <a:ext cx="7045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6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9880" y="1171800"/>
              <a:ext cx="781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5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05000" y="1171800"/>
              <a:ext cx="70488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4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42880" y="1171800"/>
              <a:ext cx="7621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3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81120" y="1171800"/>
              <a:ext cx="76176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2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52200" y="1171800"/>
              <a:ext cx="62892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66"/>
                  </a:solidFill>
                  <a:latin typeface="Comic Sans MS"/>
                </a:rPr>
                <a:t>1 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171800"/>
              <a:ext cx="952200" cy="5824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Comic Sans MS"/>
                </a:rPr>
                <a:t>midn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17180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3502080"/>
              <a:ext cx="8800920" cy="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17180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522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112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428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50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098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910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956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626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4848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300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1171800"/>
              <a:ext cx="0" cy="2330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00920" y="1171800"/>
              <a:ext cx="0" cy="2330280"/>
            </a:xfrm>
            <a:prstGeom prst="line">
              <a:avLst/>
            </a:prstGeom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75428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233712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919600"/>
              <a:ext cx="88009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14400" y="412920"/>
              <a:ext cx="36576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Comic Sans MS"/>
                  <a:ea typeface="Arial"/>
                </a:rPr>
                <a:t>12/24 Hou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81440" y="5813280"/>
            <a:ext cx="14223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11 17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17880" y="5021280"/>
            <a:ext cx="13348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3 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05440" y="4308480"/>
            <a:ext cx="117468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6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48560" y="4251240"/>
            <a:ext cx="119052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1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02680" y="5049720"/>
            <a:ext cx="143640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2 09 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73960" y="5832360"/>
            <a:ext cx="1247760" cy="42912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omic Sans MS"/>
                <a:ea typeface="Arial"/>
              </a:rPr>
              <a:t>4 50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557520"/>
            <a:ext cx="8763120" cy="703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To go from 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24 hour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 clock to 12 hour clock just </a:t>
            </a:r>
            <a:r>
              <a:rPr b="1" lang="en-US" sz="2000" spc="-1" strike="noStrike" u="sng">
                <a:solidFill>
                  <a:srgbClr val="080808"/>
                </a:solidFill>
                <a:uFillTx/>
                <a:latin typeface="Comic Sans MS"/>
                <a:ea typeface="Arial"/>
              </a:rPr>
              <a:t>subtract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cc"/>
                </a:solidFill>
                <a:latin typeface="Comic Sans MS"/>
                <a:ea typeface="Arial"/>
              </a:rPr>
              <a:t>12 from the hours if it is greater than 1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440" y="4251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33560" y="4308480"/>
            <a:ext cx="225108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8 0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5800" y="4289400"/>
            <a:ext cx="230832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3 0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680" y="5013360"/>
            <a:ext cx="274320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5 30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80000" y="5032440"/>
            <a:ext cx="280044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02 09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9360" y="5794200"/>
            <a:ext cx="274320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23 17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0000" y="5832360"/>
            <a:ext cx="2800440" cy="429120"/>
          </a:xfrm>
          <a:prstGeom prst="rect">
            <a:avLst/>
          </a:prstGeom>
          <a:gradFill rotWithShape="0">
            <a:gsLst>
              <a:gs pos="0">
                <a:srgbClr val="007373"/>
              </a:gs>
              <a:gs pos="50000">
                <a:srgbClr val="009999"/>
              </a:gs>
              <a:gs pos="100000">
                <a:srgbClr val="007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16 50 </a:t>
            </a:r>
            <a:r>
              <a:rPr b="0" lang="en-US" sz="2200" spc="-1" strike="noStrike">
                <a:solidFill>
                  <a:srgbClr val="080808"/>
                </a:solidFill>
                <a:latin typeface="Comic Sans MS"/>
                <a:ea typeface="Arial"/>
              </a:rPr>
              <a:t> be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5832360"/>
            <a:ext cx="1081080" cy="1027440"/>
            <a:chOff x="0" y="5832360"/>
            <a:chExt cx="1081080" cy="1027440"/>
          </a:xfrm>
        </p:grpSpPr>
        <p:sp>
          <p:nvSpPr>
            <p:cNvPr id="335" name=""/>
            <p:cNvSpPr/>
            <p:nvPr/>
          </p:nvSpPr>
          <p:spPr>
            <a:xfrm>
              <a:off x="0" y="5832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4600" y="6552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6092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00" y="6552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2800" y="6380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6320" y="6380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1700280"/>
            <a:ext cx="87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go from 12 hour clock to 24 hour clock just add 12 to the pm ho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276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22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1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22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64000" y="22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 1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72360" y="476280"/>
            <a:ext cx="2592360" cy="1008000"/>
          </a:xfrm>
          <a:prstGeom prst="cloudCallout">
            <a:avLst>
              <a:gd name="adj1" fmla="val -78171"/>
              <a:gd name="adj2" fmla="val 127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fter </a:t>
            </a:r>
            <a:r>
              <a:rPr b="1" lang="en-US" sz="1800" spc="-1" strike="noStrike">
                <a:solidFill>
                  <a:srgbClr val="5b0091"/>
                </a:solidFill>
                <a:latin typeface="Arial"/>
              </a:rPr>
              <a:t>1200</a:t>
            </a:r>
            <a:r>
              <a:rPr b="0" lang="en-US" sz="1800" spc="-1" strike="noStrike">
                <a:solidFill>
                  <a:srgbClr val="5b009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m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16720" y="1557360"/>
            <a:ext cx="2843280" cy="1152360"/>
          </a:xfrm>
          <a:prstGeom prst="cloudCallout">
            <a:avLst>
              <a:gd name="adj1" fmla="val -51509"/>
              <a:gd name="adj2" fmla="val 23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’ or ‘pm’ </a:t>
            </a:r>
            <a:r>
              <a:rPr b="1" lang="en-US" sz="1800" spc="-1" strike="noStrike">
                <a:solidFill>
                  <a:srgbClr val="5b0091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in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852640"/>
            <a:ext cx="111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2708280"/>
            <a:ext cx="1295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) 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1280" y="2781360"/>
            <a:ext cx="122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 0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80360" y="2781360"/>
            <a:ext cx="1152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  0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  06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2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0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450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 4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6000" y="609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 0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6400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4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4437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 1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9236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472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4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636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3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5636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 2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17080" y="270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 2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3573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 2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17080" y="443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 5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5229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 3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627280" y="6021360"/>
            <a:ext cx="1081080" cy="1027440"/>
            <a:chOff x="2627280" y="6021360"/>
            <a:chExt cx="1081080" cy="1027440"/>
          </a:xfrm>
        </p:grpSpPr>
        <p:sp>
          <p:nvSpPr>
            <p:cNvPr id="378" name=""/>
            <p:cNvSpPr/>
            <p:nvPr/>
          </p:nvSpPr>
          <p:spPr>
            <a:xfrm>
              <a:off x="262728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0188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3696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0048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9008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5360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 from am/pm to 24 hours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What_do_you_see_19.jpg"/>
          <p:cNvPicPr/>
          <p:nvPr/>
        </p:nvPicPr>
        <p:blipFill>
          <a:blip r:embed="rId2"/>
          <a:stretch/>
        </p:blipFill>
        <p:spPr>
          <a:xfrm>
            <a:off x="2451240" y="1811160"/>
            <a:ext cx="5145120" cy="463104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5T21:31:13Z</dcterms:modified>
  <cp:revision>9</cp:revision>
  <dc:subject/>
  <dc:title>Slide 1</dc:title>
</cp:coreProperties>
</file>